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D82-4893-40FB-A75F-798AFC24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A47-21BE-4CDC-8C1E-ED8FAD1B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AD5-86C5-4155-B46E-204689FC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1ED-CA01-4E14-A727-6F0D0168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D60-131F-4385-84E3-252DA379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9B4-4A28-401C-BDAD-36D71E14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FD9-6BB5-49B3-BC7E-48ADF5E2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073-7BB9-4CFA-AB54-ACA39F07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565-33E4-4479-B1A2-CB3C5064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56A-0B59-4095-B283-0163AE2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4D5-4E09-4D1F-BFD4-18DAA0E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A8B-888C-4493-9241-4BD4F392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94E1-F468-43D2-9C46-B9D247B278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lukoza jako przykład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ukru prost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Obraz 4" descr="delecta-glukoza-100g-Full.jpg"/>
          <p:cNvPicPr/>
          <p:nvPr/>
        </p:nvPicPr>
        <p:blipFill>
          <a:blip r:embed="rId1"/>
          <a:stretch/>
        </p:blipFill>
        <p:spPr>
          <a:xfrm>
            <a:off x="2556000" y="2276640"/>
            <a:ext cx="4194000" cy="374472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4"/>
          <p:cNvSpPr/>
          <p:nvPr/>
        </p:nvSpPr>
        <p:spPr>
          <a:xfrm>
            <a:off x="900000" y="609300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pracowała: mgr Agnieszka Szaf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784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słodzenia potraw dla niemowląt i osób na    dieci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łukania włosów – uelastycznia je i zapobiega rozdwajani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barwienia skór i bielenia bawełn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witaminy C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o środek wzmacniający serce i w schorzeniach wątrob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konserwowania krw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alkoholu etylow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m.in. lodów, pieczywa, przetworów owocowych i sztucznego miod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jogurtów, kefirów i śmietan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luster i bombek choinkowy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sorbitolu, środka słodząc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diabetyk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kwasu cytrynoweg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nadawania połysku tkaninom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5400" spc="-1" strike="noStrike">
                <a:solidFill>
                  <a:srgbClr val="000000"/>
                </a:solidFill>
                <a:latin typeface="Calibri"/>
              </a:rPr>
              <a:t>GLUKOZA     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3" descr="glukoza1.jpg"/>
          <p:cNvPicPr/>
          <p:nvPr/>
        </p:nvPicPr>
        <p:blipFill>
          <a:blip r:embed="rId1"/>
          <a:stretch/>
        </p:blipFill>
        <p:spPr>
          <a:xfrm>
            <a:off x="684360" y="1844640"/>
            <a:ext cx="314460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Obraz 4" descr="d_glukoza.gif"/>
          <p:cNvPicPr/>
          <p:nvPr/>
        </p:nvPicPr>
        <p:blipFill>
          <a:blip r:embed="rId2"/>
          <a:stretch/>
        </p:blipFill>
        <p:spPr>
          <a:xfrm>
            <a:off x="4716360" y="2852640"/>
            <a:ext cx="3224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jest związkiem chemicznym bardzo rozpowszechnionym w przyrodzie. Dużą ilość tej substancji zawiera sok winogron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Symbol zastępczy zawartości 3" descr="czerwone_winogrona.jpg"/>
          <p:cNvPicPr/>
          <p:nvPr/>
        </p:nvPicPr>
        <p:blipFill>
          <a:blip r:embed="rId1"/>
          <a:stretch/>
        </p:blipFill>
        <p:spPr>
          <a:xfrm>
            <a:off x="826920" y="2565360"/>
            <a:ext cx="2592720" cy="388476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zielone_winogrona.jpg"/>
          <p:cNvPicPr/>
          <p:nvPr/>
        </p:nvPicPr>
        <p:blipFill>
          <a:blip r:embed="rId2"/>
          <a:stretch/>
        </p:blipFill>
        <p:spPr>
          <a:xfrm>
            <a:off x="3924360" y="2637000"/>
            <a:ext cx="2438280" cy="367164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m935_winogrono.jpg"/>
          <p:cNvPicPr/>
          <p:nvPr/>
        </p:nvPicPr>
        <p:blipFill>
          <a:blip r:embed="rId3"/>
          <a:stretch/>
        </p:blipFill>
        <p:spPr>
          <a:xfrm>
            <a:off x="6012000" y="260280"/>
            <a:ext cx="284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lukoza powstaje w procesie fotosyntez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oślinach zielonych, którego przebieg możn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posób uproszczony przedstawić za pomocą równania reakcji chemiczn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328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6C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lukoza to podstawowe źródło energii dla wszystkich organizmów. Jest rozprowadzana przez krew do wszystkich komórek , gdzie ulega wieloetapowym przemianom. W wyniku utleniania glukozy, następuje wydzielenie dużej ilości energii.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zne utlenianie glukozy ma postać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414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→ 6C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 + energ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00"/>
                </a:solidFill>
                <a:latin typeface="Calibri"/>
              </a:rPr>
              <a:t>Właściwości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fizy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bstancja sta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tal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bar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rze rozpuszcza się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wodz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chemi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nosachary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wo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łodki s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rommer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świeżo otrzymanego wodorotlenku miedzi (II) dodajemy roztwór glukoz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ogrzewamy w łaźni wod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az 6" descr="GCH_3C26_03Nd.jpg"/>
          <p:cNvPicPr/>
          <p:nvPr/>
        </p:nvPicPr>
        <p:blipFill>
          <a:blip r:embed="rId1"/>
          <a:stretch/>
        </p:blipFill>
        <p:spPr>
          <a:xfrm>
            <a:off x="5003640" y="3068640"/>
            <a:ext cx="3822840" cy="312732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8"/>
          <p:cNvSpPr/>
          <p:nvPr/>
        </p:nvSpPr>
        <p:spPr>
          <a:xfrm>
            <a:off x="324000" y="3284640"/>
            <a:ext cx="4679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 chwili ogrzewania niebieski osad wodorotlenku miedzi (II) zmienia barwę na ceglastoczerwoną – powstaje tlenek miedzi (I)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ole tekstowe 4"/>
          <p:cNvSpPr/>
          <p:nvPr/>
        </p:nvSpPr>
        <p:spPr>
          <a:xfrm>
            <a:off x="611280" y="206064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+ 2Cu(OH)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→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+ kwas organiczny + 2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ollens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azotanu (V) srebra (I) dodajemy kilka kropli stężonego roztworu wodorotlenku sodu, a następnie roztwór amoniaku, aż do rozpuszczenia powstałego osadu. Na koniec dodajemy roztwór glukozy i wstawiamy do łaźni wodnej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716280"/>
            <a:ext cx="403848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czas ogrzewania na ściankach naczynia pojawia się srebro, czyli tzw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ustro srebr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Symbol zastępczy zawartości 4" descr="P2260308.JPG"/>
          <p:cNvPicPr/>
          <p:nvPr/>
        </p:nvPicPr>
        <p:blipFill>
          <a:blip r:embed="rId1"/>
          <a:stretch/>
        </p:blipFill>
        <p:spPr>
          <a:xfrm>
            <a:off x="4716360" y="3500280"/>
            <a:ext cx="4127760" cy="30974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4"/>
          <p:cNvSpPr/>
          <p:nvPr/>
        </p:nvSpPr>
        <p:spPr>
          <a:xfrm>
            <a:off x="539640" y="2565360"/>
            <a:ext cx="820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→ 2 Ag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ozytywny wynik prób Trommera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i Tollensa dowodzi, że 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glukoza ma właściwości redukujące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0:37:28Z</dcterms:created>
  <dc:creator>Aga</dc:creator>
  <dc:description/>
  <dc:language>en-US</dc:language>
  <cp:lastModifiedBy>Aga</cp:lastModifiedBy>
  <dcterms:modified xsi:type="dcterms:W3CDTF">2014-08-11T20:13:44Z</dcterms:modified>
  <cp:revision>20</cp:revision>
  <dc:subject/>
  <dc:title>Glukoza jako przykład cukru prostego</dc:title>
</cp:coreProperties>
</file>